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2896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1464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4292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92896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71464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466-8945-460E-AA78-F84AC60E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792-DAB7-48ED-8CF0-D9B2600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214-ECBE-4475-B0BC-C6A41178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558-4C44-4F20-B521-CE96841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5BB-C480-436B-BCD6-237316F9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7840" y="151920"/>
            <a:ext cx="7378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CD1-DED3-4D51-9AC7-B05BBFE8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BEA-DA7C-460C-914E-0EDC302F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A80-233A-4EC5-85D7-76DBF25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4BB-203A-45A5-AA5B-DD4C92AA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693-972C-4625-8FB3-C0A73E82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DDF-6AA7-4452-9AD5-6A53FF6F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2896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1464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292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2896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1464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71F-283B-46A6-A2D0-130D11B5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77840" y="151920"/>
            <a:ext cx="7378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976880" y="4320"/>
            <a:ext cx="915840" cy="19353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 rot="18427200">
            <a:off x="8064360" y="43920"/>
            <a:ext cx="919080" cy="19476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8427200">
            <a:off x="7973280" y="197280"/>
            <a:ext cx="830160" cy="146664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7394400" y="-47160"/>
            <a:ext cx="2143800" cy="1995120"/>
            <a:chOff x="7394400" y="-47160"/>
            <a:chExt cx="2143800" cy="1995120"/>
          </a:xfrm>
        </p:grpSpPr>
        <p:grpSp>
          <p:nvGrpSpPr>
            <p:cNvPr id="9" name=""/>
            <p:cNvGrpSpPr/>
            <p:nvPr/>
          </p:nvGrpSpPr>
          <p:grpSpPr>
            <a:xfrm>
              <a:off x="7394400" y="-47160"/>
              <a:ext cx="2143800" cy="1995120"/>
              <a:chOff x="7394400" y="-47160"/>
              <a:chExt cx="2143800" cy="1995120"/>
            </a:xfrm>
          </p:grpSpPr>
          <p:sp>
            <p:nvSpPr>
              <p:cNvPr id="10" name=""/>
              <p:cNvSpPr/>
              <p:nvPr/>
            </p:nvSpPr>
            <p:spPr>
              <a:xfrm rot="18427200">
                <a:off x="8668440" y="1584000"/>
                <a:ext cx="89640" cy="3985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" name=""/>
              <p:cNvGrpSpPr/>
              <p:nvPr/>
            </p:nvGrpSpPr>
            <p:grpSpPr>
              <a:xfrm>
                <a:off x="7394400" y="-47160"/>
                <a:ext cx="2143800" cy="1995120"/>
                <a:chOff x="7394400" y="-47160"/>
                <a:chExt cx="2143800" cy="1995120"/>
              </a:xfrm>
            </p:grpSpPr>
            <p:sp>
              <p:nvSpPr>
                <p:cNvPr id="12" name=""/>
                <p:cNvSpPr/>
                <p:nvPr/>
              </p:nvSpPr>
              <p:spPr>
                <a:xfrm rot="18427200">
                  <a:off x="8024040" y="113760"/>
                  <a:ext cx="220680" cy="1731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8427200">
                  <a:off x="8134560" y="498960"/>
                  <a:ext cx="388440" cy="6062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rot="18427200">
                  <a:off x="7864560" y="296280"/>
                  <a:ext cx="729000" cy="12430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rot="18427200">
                  <a:off x="7918920" y="19800"/>
                  <a:ext cx="1094040" cy="18604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rot="18427200">
                  <a:off x="8482320" y="1305360"/>
                  <a:ext cx="243720" cy="16884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 rot="18427200">
                  <a:off x="8420760" y="1175040"/>
                  <a:ext cx="261360" cy="19908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18427200">
                  <a:off x="8049600" y="314640"/>
                  <a:ext cx="261000" cy="203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rot="18427200">
                  <a:off x="7999200" y="216360"/>
                  <a:ext cx="258120" cy="1908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" name=""/>
            <p:cNvSpPr/>
            <p:nvPr/>
          </p:nvSpPr>
          <p:spPr>
            <a:xfrm>
              <a:off x="7895520" y="129240"/>
              <a:ext cx="58320" cy="13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403848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259B729-804C-40D7-8B83-8AD78698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7c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D60-7B91-4EB7-83FE-1B4A79CD88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7c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acle Academ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e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54440" y="6095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2920" y="304920"/>
            <a:ext cx="8238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DA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eaza date&amp;time a </a:t>
            </a:r>
            <a:r>
              <a:rPr b="0" lang="en-US" sz="2800" spc="-1" strike="noStrike">
                <a:solidFill>
                  <a:srgbClr val="d60093"/>
                </a:solidFill>
                <a:latin typeface="Comic Sans MS"/>
              </a:rPr>
              <a:t>serverulu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 are parame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RENT_DA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eaza data curenta de pe calculatorul </a:t>
            </a:r>
            <a:r>
              <a:rPr b="0" lang="en-US" sz="2800" spc="-1" strike="noStrike">
                <a:solidFill>
                  <a:srgbClr val="d60093"/>
                </a:solidFill>
                <a:latin typeface="Comic Sans MS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_BETWEEN(date1,date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eaza numarul de luni dintre doua date calendaristice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area returnata e un nr. real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area poate negativa (daca date2 e mai recenta decat date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2920" y="304920"/>
            <a:ext cx="8238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_MONTH(date,n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una un nr. de luni la o data calendaristic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dat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ADD_MONTH(sysdate,5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03-MAR-0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03-AUG-06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_DAY(date,'Friday'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turneaza urmatoarea zi de vineri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de dup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ziua date (adica chiar daca azi e fineri next_day(sysdate,'Friday') nu va returna ziua curenta ci vinerea viitoare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sysdat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XT_DAY(sysdate,'Monday'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NEXT_DAY(sysdate,'Friday'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03-MAR-0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06-MAR-0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10-MAR-06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8238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_DAY(da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turneaza ultima zi din luna din care face parte d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dat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LAST_DAY(sysdate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LAST_DAY(sysdate+30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03-MAR-0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31-MAR-0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30-APR-06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2920" y="228600"/>
            <a:ext cx="8238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at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Oracle pentru valorile de tip data calendaristica se memoreaza pe langa data propriu-zisa si ore, minute, secun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'03-MAR-06'-sysdate 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&gt; 0.516  (sau ceva de genul acesta…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t. o data introdusa ca mai sus '03-MAR-06' (adica nu se specifica ora), se presupune ora 12.00 A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DATE – include intotdeaun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i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r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uren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(da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tunjest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ate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la ora 12AM (miezul noptii, inceputul zilei), daca ora din date este inainte de amiaza (ora 12PM), respectiv la ziua urmatoare (12AM, miezul noptii) daca ora e trecuta de miezul zile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NC(date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unchiaza date la ora 12 AM (miezul noptii, inceputul zile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82389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(date,'Month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NC(date,'Month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unjeste/trunchiaza la inceput de luna, rotunjirea se face dup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6 ale luni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clusiv, la luna urmato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date,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sysdate,'Month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sysdate,'Month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sysdate+20,'Month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sysdate+20,'Month'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03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AP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82389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(date,'Year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NC(date,'Year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unjeste/trunchiaza la inceput de an (rotunjirea se face dup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iuli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date,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sysdate,'Year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sysdate,'Year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ADD_MONTH(sysdate,4),'Year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ADD_MONTH(sysdate,4),'Year'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03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JAN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JAN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JAN-0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7:17:12Z</dcterms:created>
  <dc:creator>carmen</dc:creator>
  <dc:description/>
  <dc:language>en-US</dc:language>
  <cp:lastModifiedBy>kome</cp:lastModifiedBy>
  <dcterms:modified xsi:type="dcterms:W3CDTF">2007-09-18T17:44:21Z</dcterms:modified>
  <cp:revision>24</cp:revision>
  <dc:subject/>
  <dc:title>Oracle Academy</dc:title>
</cp:coreProperties>
</file>